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3.jpeg" ContentType="image/jpeg"/>
  <Override PartName="/ppt/media/image45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B605-7EE8-4B39-88CB-53974BB22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EFC4-871E-4B0F-9A2D-378B89D76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FDB7-E5C9-4D45-85BE-AEE7D664B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EBD2-C7A9-4E9C-BB27-0BC0E32BA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1A16-C388-4D89-A304-0717463F5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FC36-F908-4ED2-BE01-D459C23C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8A65-DDD3-49C6-B731-DC905062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67BC-9020-4BD0-A99B-447C03FB3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BF5-782D-43B5-81C8-1331941DF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8385-6032-4E05-895D-208FEA1E6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67BD-9030-4978-A248-401B9EE2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9AEC-01C0-426E-ADD6-CC5829A94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6A9F-B928-4527-9FEC-4AC6C07F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F845-58CC-4A8D-9D75-8AB9596A2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B349-9721-4918-A1DA-E930381F2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FC68-72F8-4BFA-A8FA-611C23AB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D0F-39CE-478D-B9D6-991B0657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12F5-A257-40A9-9B12-8FFC68860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E1D9-ABBB-42CB-8128-FDF1288CF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D0DF-BECE-45CF-88F2-EB42B16D2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F47B-9B99-4A30-8C43-7DAB233DE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0E57-7285-46F4-92C8-898686464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F7B9-3E5A-4C7B-9B92-D3C21E238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D2C6-D088-4939-81C5-16FF1C474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2828-98FE-4FA5-AC8F-A66E48EAF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BD74-22F5-431D-8B9D-22AAB441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20B5-3449-4E39-8A44-B001477B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79A8-AA24-4A97-86B3-98126FF7E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2C1-B70D-4A1B-8CA6-53BDAF2A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BE6-945E-444A-9348-23D4CC51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D1A-0553-4B4E-91F5-74B983BD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0E4-E153-403E-A288-9E0DCD67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CE2-60B1-4333-A549-E79F6601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41B-4799-4128-8A01-2D0F49CB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A54-2D18-4315-B55A-C9F1C669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70F-7ADF-41F7-BACB-F0A4E6D9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5D7-023A-4811-AF53-D78D6FD0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177-56A9-4213-B42A-48D8A35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5AF-DF08-49B1-9FF6-B51E65C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0DE-A59A-48CB-BB80-FDB4DAB3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7D94-1047-46FC-AAFD-7EE530B10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owerpoint 8"/>
          <p:cNvPicPr/>
          <p:nvPr/>
        </p:nvPicPr>
        <p:blipFill>
          <a:blip r:embed="rId1"/>
          <a:stretch/>
        </p:blipFill>
        <p:spPr>
          <a:xfrm>
            <a:off x="2448000" y="333360"/>
            <a:ext cx="4248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owerpoint 10"/>
          <p:cNvPicPr/>
          <p:nvPr/>
        </p:nvPicPr>
        <p:blipFill>
          <a:blip r:embed="rId1"/>
          <a:stretch/>
        </p:blipFill>
        <p:spPr>
          <a:xfrm>
            <a:off x="276120" y="-95400"/>
            <a:ext cx="8591760" cy="70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werpoint 11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owerpoint 12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owerpoint 13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owerpoint 14"/>
          <p:cNvPicPr/>
          <p:nvPr/>
        </p:nvPicPr>
        <p:blipFill>
          <a:blip r:embed="rId1"/>
          <a:stretch/>
        </p:blipFill>
        <p:spPr>
          <a:xfrm>
            <a:off x="700200" y="1252440"/>
            <a:ext cx="77436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owerpoint 15"/>
          <p:cNvPicPr/>
          <p:nvPr/>
        </p:nvPicPr>
        <p:blipFill>
          <a:blip r:embed="rId1"/>
          <a:stretch/>
        </p:blipFill>
        <p:spPr>
          <a:xfrm>
            <a:off x="1533600" y="1747800"/>
            <a:ext cx="6076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_40153810_district2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_40153814_district24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owerpoint 16"/>
          <p:cNvPicPr/>
          <p:nvPr/>
        </p:nvPicPr>
        <p:blipFill>
          <a:blip r:embed="rId1"/>
          <a:stretch/>
        </p:blipFill>
        <p:spPr>
          <a:xfrm>
            <a:off x="1866960" y="1395360"/>
            <a:ext cx="5410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owerpoint2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powerpoint 18"/>
          <p:cNvPicPr/>
          <p:nvPr/>
        </p:nvPicPr>
        <p:blipFill>
          <a:blip r:embed="rId1"/>
          <a:stretch/>
        </p:blipFill>
        <p:spPr>
          <a:xfrm>
            <a:off x="1938240" y="1347840"/>
            <a:ext cx="5267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powerpoint dakota"/>
          <p:cNvPicPr/>
          <p:nvPr/>
        </p:nvPicPr>
        <p:blipFill>
          <a:blip r:embed="rId1"/>
          <a:stretch/>
        </p:blipFill>
        <p:spPr>
          <a:xfrm>
            <a:off x="2457360" y="762120"/>
            <a:ext cx="422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owerpoint 17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owerpoint 17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werpoint 17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lid South 80-60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powerpoint 45"/>
          <p:cNvPicPr/>
          <p:nvPr/>
        </p:nvPicPr>
        <p:blipFill>
          <a:blip r:embed="rId2"/>
          <a:stretch/>
        </p:blipFill>
        <p:spPr>
          <a:xfrm>
            <a:off x="1876320" y="262080"/>
            <a:ext cx="539136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olid South 64-04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powerpoint 46"/>
          <p:cNvPicPr/>
          <p:nvPr/>
        </p:nvPicPr>
        <p:blipFill>
          <a:blip r:embed="rId2"/>
          <a:stretch/>
        </p:blipFill>
        <p:spPr>
          <a:xfrm>
            <a:off x="1947960" y="1647720"/>
            <a:ext cx="5248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powerpoint 19"/>
          <p:cNvPicPr/>
          <p:nvPr/>
        </p:nvPicPr>
        <p:blipFill>
          <a:blip r:embed="rId1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werpoint 19"/>
          <p:cNvPicPr/>
          <p:nvPr/>
        </p:nvPicPr>
        <p:blipFill>
          <a:blip r:embed="rId2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0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D:\Anglo seminari 2012\5 i 4-5\Predsjednički izbori\Sl.1. Pobjednički kandidati po saveznim državama na američkim predsjedničkim izborima 2000. godine.jpg"/>
          <p:cNvPicPr/>
          <p:nvPr/>
        </p:nvPicPr>
        <p:blipFill>
          <a:blip r:embed="rId2"/>
          <a:stretch/>
        </p:blipFill>
        <p:spPr>
          <a:xfrm>
            <a:off x="826920" y="1773360"/>
            <a:ext cx="7596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4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Anglo seminari 2012\5 i 4-5\Predsjednički izbori\Sl.2. Pobjednički kandidati po saveznim državama na američkim predsjedničkim izborima 2004. godine.jpg"/>
          <p:cNvPicPr/>
          <p:nvPr/>
        </p:nvPicPr>
        <p:blipFill>
          <a:blip r:embed="rId2"/>
          <a:stretch/>
        </p:blipFill>
        <p:spPr>
          <a:xfrm>
            <a:off x="900000" y="1881360"/>
            <a:ext cx="7667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8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2"/>
          <a:stretch/>
        </p:blipFill>
        <p:spPr>
          <a:xfrm>
            <a:off x="108000" y="1963800"/>
            <a:ext cx="7523280" cy="376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3"/>
          <a:stretch/>
        </p:blipFill>
        <p:spPr>
          <a:xfrm>
            <a:off x="539640" y="1819440"/>
            <a:ext cx="80996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12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Anglo seminari 2012\5 i 4-5\Predsjednički izbori\Sl.4. Pobjednički kandidati po saveznim državama na američkim predsjedničkim izborima 2012. godine.jpg"/>
          <p:cNvPicPr/>
          <p:nvPr/>
        </p:nvPicPr>
        <p:blipFill>
          <a:blip r:embed="rId2"/>
          <a:stretch/>
        </p:blipFill>
        <p:spPr>
          <a:xfrm>
            <a:off x="539640" y="1628640"/>
            <a:ext cx="86043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owerpoint 2"/>
          <p:cNvPicPr/>
          <p:nvPr/>
        </p:nvPicPr>
        <p:blipFill>
          <a:blip r:embed="rId1"/>
          <a:stretch/>
        </p:blipFill>
        <p:spPr>
          <a:xfrm>
            <a:off x="2057400" y="1724040"/>
            <a:ext cx="5029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powerpoint 44"/>
          <p:cNvPicPr/>
          <p:nvPr/>
        </p:nvPicPr>
        <p:blipFill>
          <a:blip r:embed="rId1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powerpoint 44"/>
          <p:cNvPicPr/>
          <p:nvPr/>
        </p:nvPicPr>
        <p:blipFill>
          <a:blip r:embed="rId2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ržave bojišnice na izborima 2012. - progn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zervirano mjesto sadržaja 3" descr="swing prognoza.bmp"/>
          <p:cNvPicPr/>
          <p:nvPr/>
        </p:nvPicPr>
        <p:blipFill>
          <a:blip r:embed="rId1"/>
          <a:stretch/>
        </p:blipFill>
        <p:spPr>
          <a:xfrm>
            <a:off x="808200" y="1600200"/>
            <a:ext cx="752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e bojišnice na izborima 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s://upload.wikimedia.org/wikipedia/commons/e/e1/Swing-2016.png"/>
          <p:cNvPicPr/>
          <p:nvPr/>
        </p:nvPicPr>
        <p:blipFill>
          <a:blip r:embed="rId1"/>
          <a:stretch/>
        </p:blipFill>
        <p:spPr>
          <a:xfrm>
            <a:off x="851040" y="1697040"/>
            <a:ext cx="74419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owerpoint 21"/>
          <p:cNvPicPr/>
          <p:nvPr/>
        </p:nvPicPr>
        <p:blipFill>
          <a:blip r:embed="rId1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powerpoint 21"/>
          <p:cNvPicPr/>
          <p:nvPr/>
        </p:nvPicPr>
        <p:blipFill>
          <a:blip r:embed="rId2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werpoint 22"/>
          <p:cNvPicPr/>
          <p:nvPr/>
        </p:nvPicPr>
        <p:blipFill>
          <a:blip r:embed="rId1"/>
          <a:stretch/>
        </p:blipFill>
        <p:spPr>
          <a:xfrm>
            <a:off x="1376280" y="1114560"/>
            <a:ext cx="639144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bijel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zervirano mjesto sadržaja 3" descr="bijel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crn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zervirano mjesto sadržaja 3" descr="crn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owerpoint 36"/>
          <p:cNvPicPr/>
          <p:nvPr/>
        </p:nvPicPr>
        <p:blipFill>
          <a:blip r:embed="rId1"/>
          <a:stretch/>
        </p:blipFill>
        <p:spPr>
          <a:xfrm>
            <a:off x="371520" y="1585800"/>
            <a:ext cx="84009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owerpoint 38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mal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owerpoint 3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lasovi na izborima 2016. prema dobi i rasi (plavo Clinton, crveno Tru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33360" y="1552680"/>
          <a:ext cx="4006800" cy="4620960"/>
        </p:xfrm>
        <a:graphic>
          <a:graphicData uri="http://schemas.openxmlformats.org/drawingml/2006/table">
            <a:tbl>
              <a:tblPr/>
              <a:tblGrid>
                <a:gridCol w="1335240"/>
                <a:gridCol w="1336680"/>
                <a:gridCol w="1334880"/>
              </a:tblGrid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3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Ot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powerpoint 43"/>
          <p:cNvPicPr/>
          <p:nvPr/>
        </p:nvPicPr>
        <p:blipFill>
          <a:blip r:embed="rId1"/>
          <a:stretch/>
        </p:blipFill>
        <p:spPr>
          <a:xfrm>
            <a:off x="2281320" y="866880"/>
            <a:ext cx="45813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Povezana slika"/>
          <p:cNvPicPr/>
          <p:nvPr/>
        </p:nvPicPr>
        <p:blipFill>
          <a:blip r:embed="rId1"/>
          <a:stretch/>
        </p:blipFill>
        <p:spPr>
          <a:xfrm>
            <a:off x="762120" y="1814400"/>
            <a:ext cx="76197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velik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owerpoint 4"/>
          <p:cNvPicPr/>
          <p:nvPr/>
        </p:nvPicPr>
        <p:blipFill>
          <a:blip r:embed="rId1"/>
          <a:stretch/>
        </p:blipFill>
        <p:spPr>
          <a:xfrm>
            <a:off x="2219400" y="1467000"/>
            <a:ext cx="4705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ko pobjednik narodnog glasanja može dobiti većinu glasova elekt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upload.wikimedia.org/wikipedia/commons/5/51/PopWinnerLosesElecVote.png"/>
          <p:cNvPicPr/>
          <p:nvPr/>
        </p:nvPicPr>
        <p:blipFill>
          <a:blip r:embed="rId1"/>
          <a:stretch/>
        </p:blipFill>
        <p:spPr>
          <a:xfrm>
            <a:off x="2895480" y="2224080"/>
            <a:ext cx="33530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Broj narodnih glasova na izborim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s://upload.wikimedia.org/wikipedia/commons/thumb/7/7d/United_States_presidential_election%2C_2016_Cartogram.png/498px-United_States_presidential_election%2C_2016_Cartogram.png"/>
          <p:cNvPicPr/>
          <p:nvPr/>
        </p:nvPicPr>
        <p:blipFill>
          <a:blip r:embed="rId1"/>
          <a:stretch/>
        </p:blipFill>
        <p:spPr>
          <a:xfrm>
            <a:off x="1409760" y="1959120"/>
            <a:ext cx="63244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051485A"/>
          <p:cNvPicPr/>
          <p:nvPr/>
        </p:nvPicPr>
        <p:blipFill>
          <a:blip r:embed="rId1"/>
          <a:stretch/>
        </p:blipFill>
        <p:spPr>
          <a:xfrm>
            <a:off x="2666880" y="1270080"/>
            <a:ext cx="3810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4:44:34Z</dcterms:created>
  <dc:creator>Your User Name</dc:creator>
  <dc:description/>
  <dc:language>en-US</dc:language>
  <cp:lastModifiedBy>Laura Šakaja</cp:lastModifiedBy>
  <dcterms:modified xsi:type="dcterms:W3CDTF">2018-12-04T09:54:11Z</dcterms:modified>
  <cp:revision>43</cp:revision>
  <dc:subject/>
  <dc:title>Slide 1</dc:title>
</cp:coreProperties>
</file>